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7060C-7E01-4976-8927-1222634C2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8965D-A74D-4056-998F-9C620F444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576DE-2207-48C1-97B0-974DB7ED3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764D2-18B6-449B-8868-F1133E0FE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1849E-4727-4FC3-AC4B-164B4ABFF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0A337-47FE-4F83-B4F8-8873D0C69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C10C9-40E4-4066-B96E-565CECB74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296CE-658A-4927-A319-3DED5131C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69E15-3542-4C7C-BB19-E19ABEE7C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8A16-1666-4F45-ABCE-EFB00D5FA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8DD86-DAB6-4FB6-8015-F966C106D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74BFF-FB2C-41FA-8E6D-B31519E39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D8D7-CCDD-4392-8896-F687C7BB9D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88640"/>
            <a:ext cx="84567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Ερευνητική Εργασία 1</a:t>
            </a:r>
            <a:r>
              <a:rPr b="0" lang="en-US" sz="4000" spc="-1" strike="noStrike" baseline="30000">
                <a:solidFill>
                  <a:srgbClr val="000000"/>
                </a:solidFill>
                <a:latin typeface="Calibri"/>
              </a:rPr>
              <a:t>ου</a:t>
            </a:r>
            <a:r>
              <a:rPr b="0" lang="en-US" sz="4000" spc="-1" strike="noStrike">
                <a:solidFill>
                  <a:srgbClr val="000000"/>
                </a:solidFill>
                <a:latin typeface="Calibri"/>
              </a:rPr>
              <a:t> τετράμηνου</a:t>
            </a:r>
            <a:br>
              <a:rPr sz="4000"/>
            </a:br>
            <a:r>
              <a:rPr b="0" lang="en-US" sz="4000" spc="-1" strike="noStrike">
                <a:solidFill>
                  <a:srgbClr val="000000"/>
                </a:solidFill>
                <a:latin typeface="Calibri"/>
              </a:rPr>
              <a:t>Τμήμα:Β’2 Θετικό </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187280" y="1628640"/>
            <a:ext cx="6400800" cy="1224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Θέμα:</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Ναρκωτικά και ε</a:t>
            </a:r>
            <a:r>
              <a:rPr b="0" lang="en-US" sz="2800" spc="-1" strike="noStrike">
                <a:solidFill>
                  <a:srgbClr val="000000"/>
                </a:solidFill>
                <a:latin typeface="Calibri"/>
              </a:rPr>
              <a:t>ξαρτησιογόνες ουσίες</a:t>
            </a:r>
            <a:endParaRPr b="0" lang="en-US" sz="2800" spc="-1" strike="noStrike">
              <a:solidFill>
                <a:srgbClr val="000000"/>
              </a:solidFill>
              <a:latin typeface="Calibri"/>
            </a:endParaRPr>
          </a:p>
        </p:txBody>
      </p:sp>
      <p:pic>
        <p:nvPicPr>
          <p:cNvPr id="43" name="3 - Εικόνα" descr="αρχείο λήψης.jpg"/>
          <p:cNvPicPr/>
          <p:nvPr/>
        </p:nvPicPr>
        <p:blipFill>
          <a:blip r:embed="rId1"/>
          <a:stretch/>
        </p:blipFill>
        <p:spPr>
          <a:xfrm>
            <a:off x="2843280" y="2997360"/>
            <a:ext cx="3313080" cy="2162160"/>
          </a:xfrm>
          <a:prstGeom prst="rect">
            <a:avLst/>
          </a:prstGeom>
          <a:ln w="0">
            <a:noFill/>
          </a:ln>
        </p:spPr>
      </p:pic>
      <p:sp>
        <p:nvSpPr>
          <p:cNvPr id="44" name="4 - TextBox"/>
          <p:cNvSpPr/>
          <p:nvPr/>
        </p:nvSpPr>
        <p:spPr>
          <a:xfrm>
            <a:off x="755640" y="5373720"/>
            <a:ext cx="756144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Υπεύθυνος Βαμβάτσικος Κωνσταντίνος ΠΕ0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Calibri"/>
              </a:rPr>
              <a:t>2014-20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Αυτοκαταστροφική ριψοκίνδυνη συμπεριφορά </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Οι προφανείς κίνδυνοι από την κατάχρηση ή την υπερβολική χρήση ουσιών έχουν οδηγήσει στην υπόθεση ότι μερικές φορές η χρήση παρακινείται από αυτοκαταστροφικές τάσεις. Η εξάρτηση από το αλκοόλ, για παράδειγμα, έχει χαρακτηριστεί «χρόνια αυτοκτονία». Έχει παρατηρηθεί συχνά ότι οι χρόνιοι χρήστες ουσιών εμφανίζουν χαμηλή αυτοεκτίμηση και μερικές φορές έχουν έντονα αισθήματα επιθετικότητας απέναντι στον εαυτό τους.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Πίεση/προτιμήσεις συνομηλίκων</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6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ι πρώτοι πειραματισμοί με τις ουσίες συχνά εντοπίζονται στην εφηβεία. Τότε αυξάνεται η περιέργεια των νέων για τον κόσμο γύρω τους και συχνά ψάχνουν για τρόπους αντίδρασης προς τη γονεϊκή εξουσία. Κατά παράδοξο τρόπο οι νέοι, ενώ από τη μία επαναστατούν, από την άλλη θέλουν και να προσαρμόζονται στην ομάδα των συνομηλίκων τους. Έτσι συχνά εξωθούνται στο να δοκιμάσουν ουσίες από το φόβο μήπως «μείνουν στην απέξω». Ενώ η παραπάνω θεωρία ίσως ταιριάζει με τις απόψεις κάποιων γονέων, που θεωρούν ότι το παιδί τους δε θα είχε δοκιμάσει διαφορετικά κάτι τόσο επικίνδυνο, η πραγματικότητα είναι συχνά πιο σύνθετη. Είναι πολύ πιθανό να υπάρχουν νέοι που δοκιμάζουν ουσίες κάτω από αυτές τις συνθήκες, όμως κατά κύριο λόγο οι νέοι άνθρωποι επιλέγουν τους φίλους με τους οποίους θέλουν να κάνουν παρέα. Εάν ένας νέος γίνει συστηματικός χρήστης, είναι σχεδόν βέβαιο ότι αυτός ο νέος ή η νέα έχει διαλέξει να ανήκει σε μια ομάδα συνομηλίκων που μοιράζονται αυτή τη δραστηριότητα.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Περιβάλλον</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Η χρήση ουσιών γίνεται σε όλα τα επίπεδα της κοινωνίας και η οικονομική άνεση δεν αποτρέπει το πρόβλημα, εάν υπάρχει έλλειψη συναισθηματικής στήριξης και αρμονικής συνύπαρξης με την οικογένεια. Παρ’ όλα αυτά, σε γενικές γραμμές, τα πιο σοβαρά προβλήματα ουσιών είναι πιθανό να συνδέονται με την φτώχεια και τη στέρηση σε κοινωνίες με υψηλά επίπεδα ανεργίας και με μια ολόκληρη σειρά κοινωνικής και οικονομικής δυσπραγίας. Για τους νέους που ζουν σε τέτοιες συνθήκες, οι ουσίες μπορεί να επιτελέσουν μια σειρά λειτουργίες: έναν τρόπο να απωθούνται τα προβλήματα, μια καθημερινή ρουτίνα που οικοδομείται γύρω από την εξεύρεση χρημάτων για ναρκωτικά για την αγορά τους, καθώς και μια πηγή εισοδήματος από την πώλησή τους. Αυτός είναι ο λόγος που η «οικονομία των ναρκωτικών» συχνά επικρατεί εκεί όπου οι πολιτικοί, οικονομικοί και κοινωνικοί θεσμοί έχουν αποτύχει στην τοπική κοινότητ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Ναρκωτικά και εφηβεία</a:t>
            </a:r>
            <a:endParaRPr b="0" lang="en-US" sz="4400" spc="-1" strike="noStrike">
              <a:solidFill>
                <a:srgbClr val="000000"/>
              </a:solidFill>
              <a:latin typeface="Calibri"/>
            </a:endParaRPr>
          </a:p>
        </p:txBody>
      </p:sp>
      <p:sp>
        <p:nvSpPr>
          <p:cNvPr id="71" name=""/>
          <p:cNvSpPr txBox="1"/>
          <p:nvPr/>
        </p:nvSpPr>
        <p:spPr>
          <a:xfrm>
            <a:off x="468360" y="1197000"/>
            <a:ext cx="8229600" cy="4525920"/>
          </a:xfrm>
          <a:prstGeom prst="rect">
            <a:avLst/>
          </a:prstGeom>
          <a:noFill/>
          <a:ln w="0">
            <a:noFill/>
          </a:ln>
        </p:spPr>
        <p:txBody>
          <a:bodyPr anchor="t">
            <a:normAutofit fontScale="90000"/>
          </a:bodyPr>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ίναι γνωστό το πρόβλημα της χρήσης ναρκωτικών ουσιών. Με τα χρόνια παρουσιάζεται</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ραγδαία αύξηση των θυμάτων που εθίζονται σε εξαρτισιογόνες ουσίες. Πιο συγκεκριμένα</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ναρκωτικά χρησιμοποιούνταν σαν φάρμακα ανακούφισης πόνου αλλά πέρα από την</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θεραπεία του προκαλεί εθισμό. Επίσης όταν χρησιμοποιούντα για μη ιατρικούς σκοπούς,</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άλλα για την πρόκληση μεταβολών στην ψυχική διάθεση δημιουργούν:</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ψυχολογικά, σωματικά προβλήματα και προκαλούν φθορά της υγείας. Όταν σταματάει η</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ήση των ουσιών το άτομο γίνεται ψυχαναγκαστικό. Ακόμα όλα αυτά έχουν ως</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ποτέλεσμα ο χρήστης να έχει πολύ διαφορετικό τρόπο σκέψης και νοοτροπίας από άλλους</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νθρώπους. Οπότε το άτομο αποξενώνεται από την ευρύτερη κοινωνία και απομονώνεται</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ε μια υποκουλτούρα αφού μπορεί να συνεννοηθεί και να συμφωνεί μόνο με τους</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όλοιπους χρήστες . Όλα αυτά μετατρέπουν το άτομο να υποφέρει από μια πανίσχυρη</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ψυχολογική εξάρτηση χωρίς να μπορεί να αποδράσει .</a:t>
            </a:r>
            <a:endParaRPr b="0" lang="en-US" sz="1600" spc="-1" strike="noStrike">
              <a:solidFill>
                <a:srgbClr val="000000"/>
              </a:solidFill>
              <a:latin typeface="Calibri"/>
            </a:endParaRPr>
          </a:p>
          <a:p>
            <a:pPr marL="308520" indent="-308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ΣΥΝΕΠΕΙΕΣ ΑΠΟ ΤΗΝ ΧΡΗΣΗ ΤΩΝ ΝΑΡΚΩΤIΚΩΝ </a:t>
            </a:r>
            <a:endParaRPr b="0" lang="en-US" sz="4000" spc="-1" strike="noStrike">
              <a:solidFill>
                <a:srgbClr val="000000"/>
              </a:solidFill>
              <a:latin typeface="Calibri"/>
            </a:endParaRPr>
          </a:p>
        </p:txBody>
      </p:sp>
      <p:sp>
        <p:nvSpPr>
          <p:cNvPr id="73" name=""/>
          <p:cNvSpPr txBox="1"/>
          <p:nvPr/>
        </p:nvSpPr>
        <p:spPr>
          <a:xfrm>
            <a:off x="468360" y="1341360"/>
            <a:ext cx="8229600" cy="4525920"/>
          </a:xfrm>
          <a:prstGeom prst="rect">
            <a:avLst/>
          </a:prstGeom>
          <a:noFill/>
          <a:ln w="0">
            <a:noFill/>
          </a:ln>
        </p:spPr>
        <p:txBody>
          <a:bodyPr anchor="t">
            <a:normAutofit fontScale="89000"/>
          </a:bodyPr>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 </a:t>
            </a:r>
            <a:r>
              <a:rPr b="0" lang="el-GR" sz="2400" spc="-1" strike="noStrike">
                <a:solidFill>
                  <a:srgbClr val="000000"/>
                </a:solidFill>
                <a:latin typeface="Calibri"/>
              </a:rPr>
              <a:t>Οι συνέπειες από τη χρήση των ναρκωτικών ποικίλουν και εξαρτώνται σε μεγάλο βαθμό απ' τους παράγοντες( π.χ. το περιεχόμενο της ναρκωτικής ουσίας, ο τρόπος λήψης, η διάρκεια της χρήσης κτλ. ). Οι βασικότερες από αυτές είναι :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400" spc="-1" strike="noStrike">
                <a:solidFill>
                  <a:srgbClr val="000000"/>
                </a:solidFill>
                <a:latin typeface="Calibri"/>
              </a:rPr>
              <a:t>  </a:t>
            </a:r>
            <a:r>
              <a:rPr b="1" lang="el-GR" sz="2400" spc="-1" strike="noStrike">
                <a:solidFill>
                  <a:srgbClr val="000000"/>
                </a:solidFill>
                <a:latin typeface="Calibri"/>
              </a:rPr>
              <a:t>Α)</a:t>
            </a:r>
            <a:r>
              <a:rPr b="0" lang="el-GR" sz="2400" spc="-1" strike="noStrike">
                <a:solidFill>
                  <a:srgbClr val="000000"/>
                </a:solidFill>
                <a:latin typeface="Calibri"/>
              </a:rPr>
              <a:t>Η οξεία δηλητηρίαση απ' τα ναρκωτικά είναι μια απ' τις συνηθισμένες αιτίες θανάτου των τοξικομανών. Η ανάγκη που δημιουργούν πολλά απ' αυτά ( κύρια τα οπιούχα, οι αμφεταμίνες, η κοκαΐνη, τα βαρβιτουρικά ) για λήψη μεγαλύτερης δόσης, λόγω εθισμού, μπορεί να σταθεί μοιραία για τη ζωή του χρήστη. Επειδή σ' αυτές τις περιπτώσεις ο τοξικομανής έχει ανάγκη να αυξάνει συνεχώς τη δόση του, φτάνει κάποτε στην υπερδόση ( overdose ), που, ενώ είναι απαραίτητη για τις επιθυμητές εκδηλώσεις, εντούτοις είναι τοξική πια δόση για τον οργανισμό. 'Έτσι μπορεί να προκύψει δηλητηρίαση, με ποικίλα συμπτώματα, που τελικά οδηγεί σε παράλυση της αναπνοής και της κυκλοφορίας και στο θάνατο.</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4" name=""/>
          <p:cNvSpPr txBox="1"/>
          <p:nvPr/>
        </p:nvSpPr>
        <p:spPr>
          <a:xfrm>
            <a:off x="457200" y="549000"/>
            <a:ext cx="8229600" cy="6119640"/>
          </a:xfrm>
          <a:prstGeom prst="rect">
            <a:avLst/>
          </a:prstGeom>
          <a:noFill/>
          <a:ln w="0">
            <a:noFill/>
          </a:ln>
        </p:spPr>
        <p:txBody>
          <a:bodyPr anchor="t">
            <a:normAutofit fontScale="97000"/>
          </a:bodyPr>
          <a:p>
            <a:pPr marL="332640" indent="-33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χετικά με το θέμα πρέπει να επισημάνουμε κάποια ενδιαφέροντα στοιχεία : </a:t>
            </a:r>
            <a:br>
              <a:rPr sz="1800"/>
            </a:br>
            <a:br>
              <a:rPr sz="1800"/>
            </a:br>
            <a:r>
              <a:rPr b="0" lang="el-GR" sz="1800" spc="-1" strike="noStrike">
                <a:solidFill>
                  <a:srgbClr val="000000"/>
                </a:solidFill>
                <a:latin typeface="Arial"/>
              </a:rPr>
              <a:t>Να πως περιγράφει ένας τοξικομανής την περίπτωσή του. “Τέσσερις φορές έχω πάθει οβερντόουζ. Τη μία απ' αυτές είπα, τελείωσα. Μου έκοψαν τις φλέβες και με περπάτησαν κάτι φίλοι μου. Κατάφερα να γλιτώσω. Μια μέρα μεταφέρθηκα στο Λοιμωδών με ηπατικό κώμα. Ηπατίτιδα, θανατηφόρα υπογλυκαιμία, σηψαιμία και ...κάτι άλλα ψιλά ”. (Ημερήσιος τύπος). </a:t>
            </a:r>
            <a:br>
              <a:rPr sz="1800"/>
            </a:br>
            <a:br>
              <a:rPr sz="1800"/>
            </a:br>
            <a:r>
              <a:rPr b="0" lang="el-GR" sz="1800" spc="-1" strike="noStrike">
                <a:solidFill>
                  <a:srgbClr val="000000"/>
                </a:solidFill>
                <a:latin typeface="Arial"/>
              </a:rPr>
              <a:t>“Το όνομα του παιχνιδιού είναι θάνατος. Αυτό πρέπει να γίνει συνείδηση στον καθένα”, τονίζει ο καθηγητής στην έδρα της ιατροδικαστικής και Τοξικολογίας του Πανεπιστημίου Αθηνών κ. Α. Δoυτσινέλης, μιλώντας στον ημερήσιο τύπο για την ηρωίνη. Και συνεχίζει :“ Οι θάνατοι από ηρωίνη είναι πάρα πολύ συχνοί, σε σημείο ου να λέγεται και σωστά να υποστηρίζεται ότι ο τοξικομανής αυτής της ουσίας έχει πολύ λίγες πιθανότητες ν' αποκατασταθεί. </a:t>
            </a:r>
            <a:br>
              <a:rPr sz="1800"/>
            </a:br>
            <a:br>
              <a:rPr sz="1800"/>
            </a:br>
            <a:r>
              <a:rPr b="0" lang="el-GR" sz="1800" spc="-1" strike="noStrike">
                <a:solidFill>
                  <a:srgbClr val="000000"/>
                </a:solidFill>
                <a:latin typeface="Arial"/>
              </a:rPr>
              <a:t>Ο θάνατος από ηρωίνη είναι πολύ πιθανός και προέρχεται από πολλές αιτίες. Η πιο συνηθισμένη αιτία ίσως είναι η λήψη υπερβολικής δόσεως, και αυτό διότι ο τοξικομανής, στην έντονη διάθεση που έχει να πάρει μια )ση ηρωίνης, δεν ελέγχει ούτε το είδος που του δίνει ο λαθρέμπορος γιατί όπως είναι γνωστό n ηρωίνη νοθεύεται uε κινίνη, στρυχνίνη κ.α.- ούτε μπορεί να ελέγξει την ποσότητα. </a:t>
            </a:r>
            <a:endParaRPr b="0" lang="en-US" sz="1800" spc="-1" strike="noStrike">
              <a:solidFill>
                <a:srgbClr val="000000"/>
              </a:solidFill>
              <a:latin typeface="Calibri"/>
            </a:endParaRPr>
          </a:p>
          <a:p>
            <a:pPr marL="332640" indent="-33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5" name=""/>
          <p:cNvSpPr txBox="1"/>
          <p:nvPr/>
        </p:nvSpPr>
        <p:spPr>
          <a:xfrm>
            <a:off x="457200" y="0"/>
            <a:ext cx="8229600" cy="6858000"/>
          </a:xfrm>
          <a:prstGeom prst="rect">
            <a:avLst/>
          </a:prstGeom>
          <a:noFill/>
          <a:ln w="0">
            <a:noFill/>
          </a:ln>
        </p:spPr>
        <p:txBody>
          <a:bodyPr anchor="t">
            <a:normAutofit fontScale="97000"/>
          </a:bodyPr>
          <a:p>
            <a:pPr marL="332640" indent="-332640" algn="ct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άθε προϊόν είναι διαφορετικής περιεκτικότητας σε ηρωίνη, με αποτέλεσμα η ποσότητα που λαμβάνεται να μην είναι ελεγχόμενη. Άλλωστε, με τη διάθεση που έχει ο τοξικομανής, το τελευταίο πράγμα που τον ενδιαφέρει είναι να ελέγξει τη δόση του. Το μόνο που τον ενδιαφέρει είναι να βρει το ναρκωτικό και να κάνει την ένεση. </a:t>
            </a:r>
            <a:endParaRPr b="0" lang="en-US" sz="1800" spc="-1" strike="noStrike">
              <a:solidFill>
                <a:srgbClr val="000000"/>
              </a:solidFill>
              <a:latin typeface="Calibri"/>
            </a:endParaRPr>
          </a:p>
          <a:p>
            <a:pPr marL="332640" indent="-332640" algn="ct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τσι, το διαλύει τις περισσότερες φορές με νερό ή λεμόνι, σε μικρό κουταλάκι και με αυτοσχέδιο τρόπο, (ούτε καν σύριγγα) χρησιμοποιεί ορισμένες φορές μόνο μια βελόνα σκουριασμένη, και προσπαθεί να ενέσει στον εαυτό του το δηλητήριο. 'Έτσι, περιστατικά θανάτων από υπερβολική και μη ελεγχόμενη δόση είναι πολύ πιθανά και δεν εξαρτώνται μόνο από δικό του λάθος. Δεν μπορεί με τα μέσα που έχει να τα ελέγξει. 'Έτσι παθαίνει αυτό που ονομάζουμε "οβερντόουζ" και καταλήγει λέγοντας: </a:t>
            </a:r>
            <a:br>
              <a:rPr sz="1800"/>
            </a:br>
            <a:br>
              <a:rPr sz="1800"/>
            </a:br>
            <a:r>
              <a:rPr b="0" lang="el-GR" sz="1800" spc="-1" strike="noStrike">
                <a:solidFill>
                  <a:srgbClr val="000000"/>
                </a:solidFill>
                <a:latin typeface="Arial"/>
              </a:rPr>
              <a:t>“Αν ένα υγιές άτομο έχει ένα προσδόκιμο 30-40 χρόνια, για τα άτομα αυτά το προσδόκιμο επιβιώσεως είναι τρομερά χαμηλό. Δυστυχώς, δεν , υπάρχουν σήμερα στατιστικά στοιχεία για να κρίνει κανείς ποια είναι η βασική αιτία θανάτου των τοξικομανών στη χώρα μας. Πάντως εκείνο που πρέπει να τονίσει κανείς είναι ότι η τοξικομανία της ηρωίνης ιδιαίτερα είναι σχεδόν ταυτόσημη με την έννοια του θανάτου. Ο κάθε νέος που θα πάρει τη σύριγγα στο χέρι του και θ ' αποφασίσει να κάνει την ηρωίνη, παίρνει και διαβατήριο για το θάνατο. Ακόμη και ζωντανός να παραμείνει, είναι τέτοια η ψυχολογική του αποικοδόμηση, τέτοια η αποσύνθεση της προσωπικότητάς του, που μπορεί να μιλήσει κανείς για ζωντανό-νεκρό. </a:t>
            </a:r>
            <a:br>
              <a:rPr sz="1800"/>
            </a:br>
            <a:br>
              <a:rPr sz="1800"/>
            </a:br>
            <a:r>
              <a:rPr b="0" lang="el-GR" sz="1800" spc="-1" strike="noStrike">
                <a:solidFill>
                  <a:srgbClr val="000000"/>
                </a:solidFill>
                <a:latin typeface="Arial"/>
              </a:rPr>
              <a:t> </a:t>
            </a:r>
            <a:endParaRPr b="0" lang="en-US" sz="1800" spc="-1" strike="noStrike">
              <a:solidFill>
                <a:srgbClr val="000000"/>
              </a:solidFill>
              <a:latin typeface="Calibri"/>
            </a:endParaRPr>
          </a:p>
          <a:p>
            <a:pPr marL="332640" indent="-33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6" name="Rectangle 4"/>
          <p:cNvSpPr/>
          <p:nvPr/>
        </p:nvSpPr>
        <p:spPr>
          <a:xfrm>
            <a:off x="250920" y="730080"/>
            <a:ext cx="8474040" cy="50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a:t>
            </a:r>
            <a:r>
              <a:rPr b="0" lang="el-GR" sz="1800" spc="-1" strike="noStrike">
                <a:solidFill>
                  <a:srgbClr val="000000"/>
                </a:solidFill>
                <a:latin typeface="Arial"/>
              </a:rPr>
              <a:t>Η τοξικομανία(η χρόνια δηλητηρίαση) αναπτύχθηκε στην αρχή. </a:t>
            </a:r>
            <a:br>
              <a:rPr sz="1800"/>
            </a:br>
            <a:br>
              <a:rPr sz="1800"/>
            </a:br>
            <a:r>
              <a:rPr b="1" lang="el-GR" sz="2000" spc="-1" strike="noStrike">
                <a:solidFill>
                  <a:srgbClr val="000000"/>
                </a:solidFill>
                <a:latin typeface="Arial"/>
              </a:rPr>
              <a:t>Γ)</a:t>
            </a:r>
            <a:r>
              <a:rPr b="0" lang="el-GR" sz="1800" spc="-1" strike="noStrike">
                <a:solidFill>
                  <a:srgbClr val="000000"/>
                </a:solidFill>
                <a:latin typeface="Arial"/>
              </a:rPr>
              <a:t>Οι γενικές λοιμώξεις, όπως η ηπατίτιδα, ο τέτανος, οι πνευμονικές επιπλοκές, η σηψαιμία, η ενδοκαρδίτιδα κτλ., προκαλούνται από άγνοια ή αδυναμία τήρησης των συνθηκών ασηψίας, όταν γίνεται χρήση με ενέσεις. Σε έρευνα γιατρών του Νοσοκομείου Λοιμωδών Νόσων της Αθήνας (Κοντογιάννης, Μουσούλης, Γιαλούρης) αποδείχθηκε πως, ενώ το 1976 και 1977 κανείς τοξικομανής δε νοσηλεύτηκε για ηπατίτιδα, μετά το 1978 άρχισαν να νοσηλεύονται αρκετοί, κι έτσι το 1982, ένας στους δέκα αρρώστους από ηπατίτιδα ήταν τοξικομανής. 'Ήταν άνθρωποι που ανήκαν στα φτωχότερα κοινωνικά στρώματα και ο μέσος όρος ηλικίας τους ήταν τα 24 χρόνια. </a:t>
            </a:r>
            <a:br>
              <a:rPr sz="1800"/>
            </a:br>
            <a:br>
              <a:rPr sz="1800"/>
            </a:br>
            <a:r>
              <a:rPr b="0" lang="el-GR" sz="1800" spc="-1" strike="noStrike">
                <a:solidFill>
                  <a:srgbClr val="000000"/>
                </a:solidFill>
                <a:latin typeface="Arial"/>
              </a:rPr>
              <a:t>Οι ίδιοι γιατροί επισημαίνουν ότι ο αριθμός των τοξικομανών με :( ηπατίτιδα πρέπει να 'ναι ακόμα μεγαλύτερος, γιατί οι εύποροι τοξικομανείς προτιμούν τη νοσηλεία στο σπίτι ή σε ιδιωτικές κλινικές, κι έτσι πολλές περιπτώσεις δεν υπολογίζονται στις στατιστικές. </a:t>
            </a:r>
            <a:br>
              <a:rPr sz="1800"/>
            </a:b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7" name="Rectangle 4"/>
          <p:cNvSpPr/>
          <p:nvPr/>
        </p:nvSpPr>
        <p:spPr>
          <a:xfrm>
            <a:off x="468360" y="694080"/>
            <a:ext cx="844560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a:t>
            </a:r>
            <a:r>
              <a:rPr b="0" lang="el-GR" sz="1800" spc="-1" strike="noStrike">
                <a:solidFill>
                  <a:srgbClr val="000000"/>
                </a:solidFill>
                <a:latin typeface="Arial"/>
              </a:rPr>
              <a:t> Ο κίνδυνος από την πρόσμειξη των ναρκωτικών με άλλες ουσίες είναι μεγάλος. Πολλά δυσάρεστα συμπτώματα, ή και θάνατοι ακόμα, αποδίδονται στις διάφορες ουσίες(π.χ. κινίνη, στρυχνίνη κτλ.), με τις οποίες τα κυκλώματα διακίνησης νοθεύουν τα ναρκωτικά (και κυρίως την ηρωίνη) για ν' αυξήσουν τα κέρδη τους. Την ίδια νοθεία μπορεί να την κάνουν και χρήστες-μικροδιακινητές, για να εξασφαλίσουν τα απαραίτητα χρήματα για τη δόση τους. </a:t>
            </a:r>
            <a:br>
              <a:rPr sz="1800"/>
            </a:br>
            <a:br>
              <a:rPr sz="1800"/>
            </a:br>
            <a:r>
              <a:rPr b="1" lang="el-GR" sz="1800" spc="-1" strike="noStrike">
                <a:solidFill>
                  <a:srgbClr val="000000"/>
                </a:solidFill>
                <a:latin typeface="Arial"/>
              </a:rPr>
              <a:t>Ε)</a:t>
            </a:r>
            <a:r>
              <a:rPr b="0" lang="el-GR" sz="1800" spc="-1" strike="noStrike">
                <a:solidFill>
                  <a:srgbClr val="000000"/>
                </a:solidFill>
                <a:latin typeface="Arial"/>
              </a:rPr>
              <a:t> Η λήψη ναρκωτικών στη διάρκεια της εγκυμοσύνης είναι ολέθρια για το παιδί Τα ναρκωτικά διαπερνούν τον πλακούντα. Αυτό σημαίνει ότι, αν μια γυναίκα ναρκομανής μείνει έγκυος, το έμβρυο θα δεχτεί την επίδραση του ναρκωτικού και θ' αναπτύξει σωματική εξάρτηση. Επομένως, σύντομα μετά τη γέννησή του, το βρέφος θα παρουσιάζει το φοβερό πόνο της εξάρτησης από το ναρκωτικό. Οι στατιστικές δείχνουν ότι στις αρχές της δεκαετίας του 1970, από τους 20.000-30.000 ηρωινομανείς από τη Φιλαδέλφεια (Η.Π.Α.)η 1 στους 5 ήταν γυναίκα, και ότι περισσότερες από 8 στις 1 0 βρίσκονταν στις αναπαραγωγικές ηλικίες. Πράγμα που σημαίνει ότι το 1973, για παράδειγμα, 1 νεογέννητο στα 14 απ' όσα είδαν τον κόσμο στο Γενικό Νοσοκομείο της Φιλαδέλφειας γεννήθηκε από μητέρα που ήταν τοξικομανής.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8" name="Rectangle 4"/>
          <p:cNvSpPr/>
          <p:nvPr/>
        </p:nvSpPr>
        <p:spPr>
          <a:xfrm>
            <a:off x="0" y="463680"/>
            <a:ext cx="8785080" cy="5336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Στ)</a:t>
            </a:r>
            <a:r>
              <a:rPr b="0" lang="el-GR" sz="1800" spc="-1" strike="noStrike">
                <a:solidFill>
                  <a:srgbClr val="000000"/>
                </a:solidFill>
                <a:latin typeface="Arial"/>
              </a:rPr>
              <a:t>Οι γενικές κοινωνικές συνέπειες είναι τεράστιες και μόνο απλή μνεία τους θα γίνει εδώ. Μολονότι γνωρίζουμε πολλά σχετικά με τις ειδικές συνέπειες απ' τη χρήση των ναρκωτικών, δεν είναι εύκολο να προσδιορίσουμε και να αναφέρουμε τις άπειρες κοινωνικές προεκτάσεις τους. Μια διεξοδική αποτίμησή τους θ' απαιτούσε τεράστιο έργο και ολόκληρη κοινωνιολογοοικονομική πραγματεία. Χαρακτηριστική είναι η παρακάτω επίσημη διαπίστωση: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r>
              <a:rPr b="0" lang="el-GR" sz="1800" spc="-1" strike="noStrike">
                <a:solidFill>
                  <a:srgbClr val="000000"/>
                </a:solidFill>
                <a:latin typeface="Arial"/>
              </a:rPr>
              <a:t>Το κοινωνικό και οικονομικό κόστος από την κατάχρηση τοξικών ουσιών είναι υπερβολικό, κυρίως όταν υπολογίσει κανείς τα εγκλήματα και τη βία, όπως επίσης και τη διάβρωση των ηθικών αξιών που προκαλούν” (από την έκθεση των Ηνωμένων Εθνών).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κόμα, ένα μικρό μόνο δείγμα μπορούμε να έχουμε κι απ' τις δύο παρακάτω αφηγήσεις, που τις παραθέτουμε όπως δημοσιεύτηκαν στον ημερήσιο τύπο :Αυτός εδώ ο νέος έσκαβε τις φλέβες του με μανία, κοντά τέσσερα χρόνια. “Έφτασα να τρυπιέμαι και 9 φορές τη μέρα”. Γνώρισε τη φυλακή. Μετράει αγαπητούς φίλους του, που δεν υπάρχουν πια, βρέθηκαν νεκροί πλάι σε μια σύριγγα. “Πέντε φορές κινδύνεψα κι εγώ, τη μια απ' αυτές οι γιατροί με είχαν ξεγράψει”. Έκλεβε το σπίτι του, πουλούσε ηρωίνη, γνώρισε εξευτελισμούς για το βάρεμά του. “Πόσες και πόσες φορές δεν έφτυσα τον εαυτό μου στον καθρέφτη για όσα έκανα προκειμένου να βγάλω τη δόση μου”.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2692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ΝΑΡΚΩΤΙΚΑ &amp; ΕΞΑΡΤΗΣΙΟΓΟΝΕΣ ΟΥΣΙΕΣ</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684360" y="1557000"/>
            <a:ext cx="7920000" cy="4824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alibri"/>
              </a:rPr>
              <a:t>Η εργασία μας έχει ως κεντρικό πυρήνα τα ναρκωτικά και τις εξαρτησιογόνες ουσίες. Μέσα από την</a:t>
            </a:r>
            <a:r>
              <a:rPr b="1" lang="en-US" sz="2800" spc="-1" strike="noStrike">
                <a:solidFill>
                  <a:srgbClr val="000000"/>
                </a:solidFill>
                <a:latin typeface="Calibri"/>
              </a:rPr>
              <a:t> </a:t>
            </a:r>
            <a:r>
              <a:rPr b="1" lang="el-GR" sz="2800" spc="-1" strike="noStrike">
                <a:solidFill>
                  <a:srgbClr val="000000"/>
                </a:solidFill>
                <a:latin typeface="Calibri"/>
              </a:rPr>
              <a:t>εργασία αυτή θέλουμε να πληροφορήσουμε τον κόσμο για αυτά. Έτσι παραθέτουμε τα είδη και τις διάφορες μορφές τους και ιδιαίτερα αυτών που είναι πιο προσιτά στους νέους δηλαδή το αλκοόλ και το κάπνισμα. Δίνουμε επίσης τις συνέπειες που αυτά έχουν στην ζωή του εξαρτημένου ατόμου τόσο σε βιολογικό όσο και σε ψυχολογικό τομέα. Τα ναρκωτικά και γενικότερα οι εξαρτησιογόνες ουσίες είναι η μάστιγα της εποχή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9" name="Rectangle 4"/>
          <p:cNvSpPr/>
          <p:nvPr/>
        </p:nvSpPr>
        <p:spPr>
          <a:xfrm>
            <a:off x="179280" y="757440"/>
            <a:ext cx="857412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δρόμοι, όπως μου λέει, που ανοίγονται σ ' αυτές τις περιπτώσεις, είναι να γίνει κανείς ληστής ή λαθρέμπορος, για να εξοικονομήσει τη δόση του. Όσοι Δε γίνουν κλέφτες ή λαθρέμποροι, θα γίνουν μαστροποί ή μικροέμποροι ηρωίνης. Είναι αυτοί που τη νοθεύουν και τη μία δόση την κάνουν δύο! για να μπορούν να εξοικονομήσουν την επόμενη δόση τους.</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τίστοιχα, οι γυναίκες οδηγούνται στην πορνεία, Ο Κώστας άρχισε, πριν ακόμα κλείσει τα δεκαέξι του, με δύο χάπια και ένα τσιγαριλίκι. Αργότερα ήρθε και η σύριγγα. Όλα αυτά τα χρόνια υπολογίζει ότι κύλησαν 1.500.000 μιλιγκράμ ηρωίνης στο αίμα του. “Ενάμισι κιλό κι ακόμα δεν μπαζώθηκα. Κάτι είναι κι αυτό”. Λογαριάζουμε: Πρέπει να πέρασαν απ ' τα χέρια του 15 εκατομμύρια δραχμές.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λα δόθηκαν για τη δόση.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δύνατον “Κι όμως δεν είναι. Θυμάμαι μέρες, που έδωσα και 20. 000 δραχμές. Θα μου πεις, πού έβρισκα τα χρήματα. Έκλεψα απ ' το σπίτι μου, έγινα βαποράκι. Υπήρχαν μέρες που είχα στα χέρια μου και 60.000 δρχ. Όλα έφευγαν στην πρέζα. Έτσι είναι όλοι. Ξέρω κοπέλες που στέκονται στα πεζοδρόμια της Βουκουρεστίου, γίνονται πόρνες για τη δόση τους, αγόρια που έκαναν διαρρήξεις. Η ηρωίνη σε κάνει δούλο της, δεν υπάρχουν ηθικοί ενδοιασμοί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764640"/>
            <a:ext cx="77724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ΑΛΚΟΟΛ</a:t>
            </a:r>
            <a:endParaRPr b="0" lang="en-US" sz="4400" spc="-1" strike="noStrike">
              <a:solidFill>
                <a:srgbClr val="000000"/>
              </a:solidFill>
              <a:latin typeface="Calibri"/>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609480" indent="-60948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ΑΙΤΙΑ ΚΑΤΑΧΡΗΣΗΣ </a:t>
            </a:r>
            <a:endParaRPr b="0" lang="en-US" sz="3200" spc="-1" strike="noStrike">
              <a:solidFill>
                <a:srgbClr val="000000"/>
              </a:solidFill>
              <a:latin typeface="Calibri"/>
            </a:endParaRPr>
          </a:p>
          <a:p>
            <a:pPr marL="609480" indent="-60948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ΣΥΝΕΠΕΙΕΣ ΣΤΗΝ ΥΓΕΙΑ </a:t>
            </a:r>
            <a:endParaRPr b="0" lang="en-US" sz="3200" spc="-1" strike="noStrike">
              <a:solidFill>
                <a:srgbClr val="000000"/>
              </a:solidFill>
              <a:latin typeface="Calibri"/>
            </a:endParaRPr>
          </a:p>
          <a:p>
            <a:pPr marL="609480" indent="-60948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ΡΟΠΟΙ ΑΝΤΙΜΕΤΩΠΙΣΗ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ΠΑΡΑΓΟΝΤΕΣ ΥΠΕΡΜΕΤΡΗΣ ΚΑΤΑΝΑΛΩΣΗΣ</a:t>
            </a:r>
            <a:endParaRPr b="0" lang="en-US" sz="2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Ψυχολογικά προβλήματ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Άγχο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Μοναξιά</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Δυσμενής οικονομική κατάστασ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Πρότυπα δαπανηρής πολυποσία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ικογενειακά προβλήματ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Περιθωριοποίηση</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ΣΥΝΕΠΕΙΕΣ ΣΤΟΝ ΧΡΗΣΤΗ</a:t>
            </a:r>
            <a:br>
              <a:rPr sz="3600"/>
            </a:br>
            <a:endParaRPr b="0" lang="en-US" sz="36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Κίρρωση ήπατο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Κακή λειτουργία του κυκλοφορικού συστήματο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λκοολική πολυνευροπάθει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πομόνωση από τον κοινωνικό περίγυρο</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αλθακοποίησ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ντικοινωνική συμπεριφορά</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ΤΡΟΠΟΙ ΑΝΤΙΜΕΤΩΠΙΣΗΣ</a:t>
            </a: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Πρόληψη μέσω της διαφήμισης και διοργάνωσης ενημερωτικών προγραμμάτων για μαθητές και πολίτε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Υποστήριξη ψυχολογική και κοινωνική των πασχόντων από τους συνανθρώπους του και τους εξειδικευμένους φορεί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Προσωπική υπευθυνότητα και προσοχή προς κάθε μορφή εναλλακτικού παραδείσου μέσω της κατάχρησης εθιστικών ουσιώ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ΚΑΠΝΙΣΜΑ</a:t>
            </a: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ΑΙΤΙ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ΣΥΝΕΠΕΙΕΣ ΣΕ ΑΤΟΜΟ ΚΑΙ ΚΟΙΝΩΝΙ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ΑΝΤΙΜΕΤΩΠΙΣΗ ΤΟΥ ΠΡΟΒΛΗΜΑΤΟ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ΚΙΝΗΤΡΑ ΚΑΠΝΙΣΤΩΝ</a:t>
            </a: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Ανακούφιση από την καθημερινή συναισθηματική φόρτιση</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Ευχαρίστηση</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Κοινωνική αποδοχή</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Σκότωμα’’ της ώρας, απαλλαγή από την καθημερινή πλήξη</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Ειδικά για τους νέους αποτελεί μέσο επίδειξης μιας κακώς εννοούμενης ανεξαρτησία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ΣΥΝΕΠΕΙΕΣ</a:t>
            </a: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Πνευμονικές διαταραχέ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Καρκίνο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Πρόωρη γήρανσ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Νευρικότητ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Δαπανηρή συνήθει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 καπνός επηρεάζει και τους μη καπνιστές (παθητικό κάπνισμ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ΠΕΡΙΟΡΙΣΜΟΣ-ΠΡΟΛΗΨΗ</a:t>
            </a: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Προσωπική προσπάθεια απεξάρτηση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Απαγόρευση καπνίσματος σε δημόσιους και κλειστούς χώρου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Παρακολούθηση ειδικών προγραμμάτων απεξάρτησης σε εξειδικευμένα κέντρα και μέσω εναλλακτικών θεραπειώ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Ενημέρωση στα σχολεία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2960" y="4996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ea typeface="Arial"/>
              </a:rPr>
              <a:t>ΕΙΔΗ ΝΑΡΚΩΤΙΚΩΝ</a:t>
            </a:r>
            <a:endParaRPr b="0" lang="en-US" sz="4000" spc="-1" strike="noStrike">
              <a:solidFill>
                <a:srgbClr val="000000"/>
              </a:solidFill>
              <a:latin typeface="Calibri"/>
            </a:endParaRPr>
          </a:p>
        </p:txBody>
      </p:sp>
      <p:sp>
        <p:nvSpPr>
          <p:cNvPr id="97" name="PlaceHolder 2"/>
          <p:cNvSpPr>
            <a:spLocks noGrp="1"/>
          </p:cNvSpPr>
          <p:nvPr>
            <p:ph type="subTitle"/>
          </p:nvPr>
        </p:nvSpPr>
        <p:spPr>
          <a:xfrm>
            <a:off x="1000080" y="1642680"/>
            <a:ext cx="6858000" cy="5072040"/>
          </a:xfrm>
          <a:prstGeom prst="rect">
            <a:avLst/>
          </a:prstGeom>
          <a:noFill/>
          <a:ln w="0">
            <a:noFill/>
          </a:ln>
        </p:spPr>
        <p:txBody>
          <a:bodyPr anchor="t">
            <a:noAutofit/>
          </a:bodyPr>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Ηρωίνη</a:t>
            </a:r>
            <a:endParaRPr b="0" lang="en-US" sz="2800" spc="-1" strike="noStrike">
              <a:solidFill>
                <a:srgbClr val="000000"/>
              </a:solidFill>
              <a:latin typeface="Calibri"/>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Ινδική κάνναβης</a:t>
            </a:r>
            <a:endParaRPr b="0" lang="en-US" sz="2800" spc="-1" strike="noStrike">
              <a:solidFill>
                <a:srgbClr val="000000"/>
              </a:solidFill>
              <a:latin typeface="Calibri"/>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Κοκαΐνη</a:t>
            </a:r>
            <a:endParaRPr b="0" lang="en-US" sz="2800" spc="-1" strike="noStrike">
              <a:solidFill>
                <a:srgbClr val="000000"/>
              </a:solidFill>
              <a:latin typeface="Calibri"/>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SD</a:t>
            </a:r>
            <a:r>
              <a:rPr b="0" lang="el-GR" sz="2800" spc="-1" strike="noStrike">
                <a:solidFill>
                  <a:srgbClr val="000000"/>
                </a:solidFill>
                <a:latin typeface="Arial"/>
                <a:ea typeface="Arial"/>
              </a:rPr>
              <a:t> ή λυσεργίδη</a:t>
            </a:r>
            <a:endParaRPr b="0" lang="en-US" sz="2800" spc="-1" strike="noStrike">
              <a:solidFill>
                <a:srgbClr val="000000"/>
              </a:solidFill>
              <a:latin typeface="Calibri"/>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Έκσταση</a:t>
            </a:r>
            <a:endParaRPr b="0" lang="en-US" sz="2800" spc="-1" strike="noStrike">
              <a:solidFill>
                <a:srgbClr val="000000"/>
              </a:solidFill>
              <a:latin typeface="Calibri"/>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Αμφεταμίνες</a:t>
            </a:r>
            <a:endParaRPr b="0" lang="en-US" sz="2800" spc="-1" strike="noStrike">
              <a:solidFill>
                <a:srgbClr val="000000"/>
              </a:solidFill>
              <a:latin typeface="Calibri"/>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ack</a:t>
            </a:r>
            <a:endParaRPr b="0" lang="en-US" sz="2800" spc="-1" strike="noStrike">
              <a:solidFill>
                <a:srgbClr val="000000"/>
              </a:solidFill>
              <a:latin typeface="Calibri"/>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Ηχητικά ναρκωτικά</a:t>
            </a:r>
            <a:endParaRPr b="0" lang="en-US" sz="2800" spc="-1" strike="noStrike">
              <a:solidFill>
                <a:srgbClr val="000000"/>
              </a:solidFill>
              <a:latin typeface="Calibri"/>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Τι είναι εξαρτησιογόνες ουσίες;</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 </a:t>
            </a:r>
            <a:r>
              <a:rPr b="0" lang="el-GR" sz="3000" spc="-1" strike="noStrike">
                <a:solidFill>
                  <a:srgbClr val="000000"/>
                </a:solidFill>
                <a:latin typeface="Calibri"/>
              </a:rPr>
              <a:t>Οι εξαρτησιογόνες ουσίες είναι χημικές ουσίες που προκαλούν εθισμό, μια κατάσταση δηλαδή, όπου ο χρήστης διακατέχεται από μια  μη ελεγχόμενη επιθυμία χρησιμοποίησης των ουσιών αυτών, που οδηγεί σε μια ψυχική και σωματική κατάπτωση και συνοδεύεται από πολύπλοκα συμπτώματα δυσφορίας, πόνου και εξαθλίωσης. Στις εξαρτησιογόνες ουσίες συγκαταλέγονται το αλκοόλ, η νικοτίνη, η καφεΐνη, το χασίς, το όπιο, η μορφίνη, η ηρωίνη, οι αμφεταμίνες, το LSD, οι βενζοδιαζεπίνες, τα βαρβιτουρικά κ.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ea typeface="Arial"/>
              </a:rPr>
              <a:t>ΗΡΩΙΝΗ</a:t>
            </a:r>
            <a:br>
              <a:rPr sz="4000"/>
            </a:br>
            <a:r>
              <a:rPr b="1" lang="en-US" sz="4000" spc="-1" strike="noStrike" u="sng">
                <a:solidFill>
                  <a:srgbClr val="000000"/>
                </a:solidFill>
                <a:uFillTx/>
                <a:latin typeface="Arial"/>
                <a:ea typeface="Arial"/>
              </a:rPr>
              <a:t>ΕΠΙΠΤΩΣΕΙΣ</a:t>
            </a:r>
            <a:endParaRPr b="0" lang="en-US" sz="4000" spc="-1" strike="noStrike">
              <a:solidFill>
                <a:srgbClr val="000000"/>
              </a:solidFill>
              <a:latin typeface="Calibri"/>
            </a:endParaRPr>
          </a:p>
        </p:txBody>
      </p:sp>
      <p:sp>
        <p:nvSpPr>
          <p:cNvPr id="99" name=""/>
          <p:cNvSpPr txBox="1"/>
          <p:nvPr/>
        </p:nvSpPr>
        <p:spPr>
          <a:xfrm>
            <a:off x="457200" y="1600200"/>
            <a:ext cx="8229600" cy="51148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αίσθηση υπνηλίας</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περιορισμός των σεξουαλικών ορμών</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αδράνεια (που οφείλεται κυρίως στη χρήση μεγάλων δόσεων)</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συναίσθημα «ευτυχίας» και «ηρεμίας»    </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οργανικές εγκεφαλικές αλλοιώσεις</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ασθένειες, όπως Aids, ελονοσία και ηπατίτιδα που εμφανίζονται λόγω μόλυνσης από μη αποστειρωμένες βελόνες ή από την πολλαπλή χρήση τους από διαφορετικά άτομα.</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διαταραχές ή/και διακοπή του έμμηνου κύκλου, στις γυναίκες</a:t>
            </a:r>
            <a:endParaRPr b="0" lang="en-US" sz="2800" spc="-1" strike="noStrike">
              <a:solidFill>
                <a:srgbClr val="000000"/>
              </a:solidFill>
              <a:latin typeface="Calibri"/>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ΙΝΔΙΚΗ ΚΑΝΝΑΒΗΣ</a:t>
            </a:r>
            <a:br>
              <a:rPr sz="4000"/>
            </a:br>
            <a:r>
              <a:rPr b="1" lang="en-US" sz="4000" spc="-1" strike="noStrike" u="sng">
                <a:solidFill>
                  <a:srgbClr val="000000"/>
                </a:solidFill>
                <a:uFillTx/>
                <a:latin typeface="Calibri"/>
              </a:rPr>
              <a:t>ΕΠΙΠΤΩΣΕΙΣ</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Αρνητικά συναισθήματα</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Ελάττωση της μυϊκής δύναμης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Παραισθήσεις και παρανοειδή αισθήματα</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Αλλοίωση αντίληψη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Αποδιοργάνωση σκέψη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f7f7f"/>
                </a:solidFill>
                <a:uFillTx/>
                <a:latin typeface="Arial"/>
                <a:ea typeface="Arial"/>
              </a:rPr>
              <a:t>ΚΟΚΑΪΝΗ</a:t>
            </a:r>
            <a:br>
              <a:rPr sz="3600"/>
            </a:br>
            <a:r>
              <a:rPr b="0" lang="en-US" sz="3600" spc="-1" strike="noStrike" u="sng">
                <a:solidFill>
                  <a:srgbClr val="7f7f7f"/>
                </a:solidFill>
                <a:uFillTx/>
                <a:latin typeface="Arial"/>
                <a:ea typeface="Arial"/>
              </a:rPr>
              <a:t>ΕΠΙΠΤΩΣΕΙΣ</a:t>
            </a:r>
            <a:endParaRPr b="0" lang="en-US" sz="36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Καρδιακά προβλήματα</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Ψυχωτικά επεισόδια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Κατάθλιψ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Αποβολή</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Πρόωρος τοκετό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Θνησιογονί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SD</a:t>
            </a:r>
            <a:br>
              <a:rPr sz="4000"/>
            </a:br>
            <a:r>
              <a:rPr b="0" lang="el-GR" sz="4000" spc="-1" strike="noStrike">
                <a:solidFill>
                  <a:srgbClr val="000000"/>
                </a:solidFill>
                <a:latin typeface="Arial"/>
                <a:ea typeface="Arial"/>
              </a:rPr>
              <a:t>ΕΠΙΠΤΩΣΕΙΣ</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2800" spc="-1" strike="noStrike">
                <a:solidFill>
                  <a:srgbClr val="000000"/>
                </a:solidFill>
                <a:latin typeface="Arial"/>
                <a:ea typeface="Arial"/>
              </a:rPr>
              <a:t>αύξηση του καρδιακού ρυθμού και της αρτηριακής πίεσης</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διαστολή της κόρης των ματιών</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αύξηση της θερμοκρασίας του σώματος,</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εφίδρωση</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ανορεξία</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αϋπνία</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ξηροστομία</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τρόμος, ρίγη</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μυϊκή αδυναμί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ΕΚΣΤΑΣΗ</a:t>
            </a:r>
            <a:br>
              <a:rPr sz="4000"/>
            </a:br>
            <a:r>
              <a:rPr b="0" lang="en-US" sz="4000" spc="-1" strike="noStrike">
                <a:solidFill>
                  <a:srgbClr val="000000"/>
                </a:solidFill>
                <a:latin typeface="Calibri"/>
              </a:rPr>
              <a:t>ΕΠΙΠΤΩΣΕΙΣ</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Αύξηση της συστολικής αρτηριακής πίεσης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Χημικός ερεθισμός των νεύρων</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Αύξηση των καρδιακών παλμών</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Χαλάρωση</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Ευφορία</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Διαχυτικότητα προς τους άλλους</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Μείωση των αναστολώ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ΑΜΦΕΤΑΜΙΝΕΣ</a:t>
            </a:r>
            <a:br>
              <a:rPr sz="4000"/>
            </a:br>
            <a:r>
              <a:rPr b="0" lang="en-US" sz="4000" spc="-1" strike="noStrike">
                <a:solidFill>
                  <a:srgbClr val="000000"/>
                </a:solidFill>
                <a:latin typeface="Arial"/>
                <a:ea typeface="Arial"/>
              </a:rPr>
              <a:t>ΕΠΙΠΤΩΣΕΙΣ</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Ταχυκαρδία, εφίδρωση, ξηροστομία, διαστολή στις κόρες των ματιών.</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Ναυτία και εμετοί.</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Τέντωμα των μυών της σιαγόνας και φθορά των δοντιών.</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Θολή όρασ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Αϋπνί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RACK</a:t>
            </a:r>
            <a:br>
              <a:rPr sz="3600"/>
            </a:br>
            <a:r>
              <a:rPr b="0" lang="el-GR" sz="3600" spc="-1" strike="noStrike">
                <a:solidFill>
                  <a:srgbClr val="000000"/>
                </a:solidFill>
                <a:latin typeface="Arial"/>
                <a:ea typeface="Arial"/>
              </a:rPr>
              <a:t>ΕΠΙΠΤΩΣΕΙΣ</a:t>
            </a:r>
            <a:endParaRPr b="0" lang="en-US" sz="36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καρδιακά προβλήματα</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ψυχωτικά επεισόδια</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καταστολή</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απώλεια βάρου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νευρικότητα</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αϋπνία</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ΗΧΗΤΙΚΑ ΝΑΡΚΩΤΙΚΑ</a:t>
            </a:r>
            <a:br>
              <a:rPr sz="4000"/>
            </a:br>
            <a:r>
              <a:rPr b="0" lang="en-US" sz="4000" spc="-1" strike="noStrike">
                <a:solidFill>
                  <a:srgbClr val="000000"/>
                </a:solidFill>
                <a:latin typeface="Arial"/>
                <a:ea typeface="Arial"/>
              </a:rPr>
              <a:t>ΕΠΙΠΤΩΣΕΙΣ</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Λήθαργο</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Χαλάρωσ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Υπερδιέγερσ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9" name=""/>
          <p:cNvSpPr txBox="1"/>
          <p:nvPr/>
        </p:nvSpPr>
        <p:spPr>
          <a:xfrm>
            <a:off x="468360" y="260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 </a:t>
            </a:r>
            <a:r>
              <a:rPr b="0" lang="el-GR" sz="3000" spc="-1" strike="noStrike">
                <a:solidFill>
                  <a:srgbClr val="000000"/>
                </a:solidFill>
                <a:latin typeface="Calibri"/>
              </a:rPr>
              <a:t>Οι εξαρτησιογόνες ουσίες είναι χημικές ουσίες που προκαλούν εθισμό, μια κατάσταση δηλαδή, όπου ο χρήστης διακατέχεται από μια  μη ελεγχόμενη επιθυμία χρησιμοποίησης των ουσιών αυτών, που οδηγεί σε μια ψυχική και σωματική κατάπτωση και συνοδεύεται από πολύπλοκα συμπτώματα δυσφορίας, πόνου και εξαθλίωσης. Στις εξαρτησιογόνες ουσίες συγκαταλέγονται το αλκοόλ, η νικοτίνη, η καφεΐνη, το χασίς, το όπιο, η μορφίνη, η ηρωίνη, οι αμφεταμίνες, το LSD, οι βενζοδιαζεπίνες, τα βαρβιτουρικά κ.α..</a:t>
            </a:r>
            <a:endParaRPr b="0" lang="en-US" sz="3000" spc="-1" strike="noStrike">
              <a:solidFill>
                <a:srgbClr val="000000"/>
              </a:solidFill>
              <a:latin typeface="Calibri"/>
            </a:endParaRPr>
          </a:p>
        </p:txBody>
      </p:sp>
      <p:pic>
        <p:nvPicPr>
          <p:cNvPr id="50" name="3 - Εικόνα" descr="αρχείο λήψης (1).jpg"/>
          <p:cNvPicPr/>
          <p:nvPr/>
        </p:nvPicPr>
        <p:blipFill>
          <a:blip r:embed="rId1"/>
          <a:stretch/>
        </p:blipFill>
        <p:spPr>
          <a:xfrm>
            <a:off x="1116000" y="4869000"/>
            <a:ext cx="2514600" cy="1819080"/>
          </a:xfrm>
          <a:prstGeom prst="rect">
            <a:avLst/>
          </a:prstGeom>
          <a:ln w="0">
            <a:noFill/>
          </a:ln>
        </p:spPr>
      </p:pic>
      <p:pic>
        <p:nvPicPr>
          <p:cNvPr id="51" name="4 - Εικόνα" descr="αρχείο λήψης.jpg"/>
          <p:cNvPicPr/>
          <p:nvPr/>
        </p:nvPicPr>
        <p:blipFill>
          <a:blip r:embed="rId2"/>
          <a:stretch/>
        </p:blipFill>
        <p:spPr>
          <a:xfrm>
            <a:off x="5364000" y="4869000"/>
            <a:ext cx="2619360" cy="174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Γιατί όμως καταφεύγουν οι άνθρωποι και οι νέοι στα ναρκωτικά;</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Οι άνθρωποι και πιο συγκεκριμένα οι νέοι καταφεύγουν στην «εύκολη λύση», αλλά «επικίνδυνη λύση» των ναρκωτικών γιατί θεωρούν πως έτσι θα αλλάξει η ζωή τους. Μερικοί στρέφονται στα ναρκωτικά προκείμενου να γίνουν αποδεκτοί από διάφορες ομάδες συνομηλίκων τους. Επίσης, οι περισσότεροι πιστεύουν πως λαμβάνοντας τέτοιες ουσίες καταφέρνουν να ξεφύγουν και να χαλαρώσουν από το άγχος της καθημερινότητας τους. Παράλληλα, πολλοί στην αρχή ξεκινούν μόνο και μόνο για να πειραματιστούν νομίζοντας πως δεν θα καταφέρουν να εθιστούν, ώσπου στο τέλος καταλήγουν χρόνιοι χρήστες. Τέλος, τα ναρκωτικά γίνονται αρεστά γιατί κάποιοι τα έχουν συνδυάσει με επανάσταση και θεωρούν πως με αυτά έρχονται κόντρα στο κατεστημένο.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4" name=""/>
          <p:cNvSpPr txBox="1"/>
          <p:nvPr/>
        </p:nvSpPr>
        <p:spPr>
          <a:xfrm>
            <a:off x="468360" y="33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α ναρκωτικά αν και θεωρούνται λύση καταλήγουν στο τέλος να γίνονται ένα πρόβλημα το οποίο ταλανίζει τους χρήστες και τον ίδιο τους τον περίγυρο. Οι επιπτώσεις τους στην υγεία των χρηστών είναι τόσο επικίνδυνες που πολλοί δεν καταφέρνουν να επιβιώσουν τελικά και θυσιάζονται στο βωμό των ναρκωτικώ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3 - Εικόνα" descr="images.jpg"/>
          <p:cNvPicPr/>
          <p:nvPr/>
        </p:nvPicPr>
        <p:blipFill>
          <a:blip r:embed="rId1"/>
          <a:stretch/>
        </p:blipFill>
        <p:spPr>
          <a:xfrm>
            <a:off x="971640" y="4581360"/>
            <a:ext cx="2476440" cy="1847880"/>
          </a:xfrm>
          <a:prstGeom prst="rect">
            <a:avLst/>
          </a:prstGeom>
          <a:ln w="0">
            <a:noFill/>
          </a:ln>
        </p:spPr>
      </p:pic>
      <p:pic>
        <p:nvPicPr>
          <p:cNvPr id="56" name="4 - Εικόνα" descr="αρχείο λήψης (2).jpg"/>
          <p:cNvPicPr/>
          <p:nvPr/>
        </p:nvPicPr>
        <p:blipFill>
          <a:blip r:embed="rId2"/>
          <a:stretch/>
        </p:blipFill>
        <p:spPr>
          <a:xfrm>
            <a:off x="3635280" y="4581360"/>
            <a:ext cx="2390760" cy="1914840"/>
          </a:xfrm>
          <a:prstGeom prst="rect">
            <a:avLst/>
          </a:prstGeom>
          <a:ln w="0">
            <a:noFill/>
          </a:ln>
        </p:spPr>
      </p:pic>
      <p:pic>
        <p:nvPicPr>
          <p:cNvPr id="57" name="5 - Εικόνα" descr="images (1).jpg"/>
          <p:cNvPicPr/>
          <p:nvPr/>
        </p:nvPicPr>
        <p:blipFill>
          <a:blip r:embed="rId3"/>
          <a:stretch/>
        </p:blipFill>
        <p:spPr>
          <a:xfrm>
            <a:off x="6227640" y="458136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Αίτια της χρήσης ναρκωτικών.</a:t>
            </a:r>
            <a:endParaRPr b="0" lang="en-US" sz="4400" spc="-1" strike="noStrike">
              <a:solidFill>
                <a:srgbClr val="000000"/>
              </a:solidFill>
              <a:latin typeface="Calibri"/>
            </a:endParaRPr>
          </a:p>
        </p:txBody>
      </p:sp>
      <p:sp>
        <p:nvSpPr>
          <p:cNvPr id="59" name=""/>
          <p:cNvSpPr txBox="1"/>
          <p:nvPr/>
        </p:nvSpPr>
        <p:spPr>
          <a:xfrm>
            <a:off x="468360" y="1413000"/>
            <a:ext cx="8229600" cy="4525920"/>
          </a:xfrm>
          <a:prstGeom prst="rect">
            <a:avLst/>
          </a:prstGeom>
          <a:noFill/>
          <a:ln w="0">
            <a:noFill/>
          </a:ln>
        </p:spPr>
        <p:txBody>
          <a:bodyPr anchor="t">
            <a:normAutofit fontScale="92000"/>
          </a:bodyPr>
          <a:p>
            <a:pPr marL="315360" indent="-315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Calibri"/>
              </a:rPr>
              <a:t>Πολλοί λόγοι έχουν προταθεί για να εξηγήσουν γιατί οι άνθρωποι παίρνουν ναρκωτικά και γιατί μερικοί χρήστες εξαρτώνται από αυτά. Οι περισσότερες θεωρίες για τις αιτίες της χρήσης ή της εξάρτησης από τα ναρκωτικά βασίζονται σε περιγραφές των ίδιων των χρηστών. Υπάρχουν πολύ λίγα στοιχεία για τα χαρακτηριστικά αυτών των ατόμων, πριν εμπλακούν με τα ναρκωτικά. Παρ’ όλα αυτά, είναι μάλλον απίθανο να οφείλεται είτε η χρήση των ναρκωτικών είτε η εξάρτηση από αυτά σε έναν και μόνο παράγοντα. Φαίνεται ότι η χρήση ναρκωτικών γενικά είναι το αποτέλεσμα της αλληλεπίδρασης ανάμεσα στο ναρκωτικό και τα ιδιαίτερα χαρακτηριστικά του ατόμου και του περιβάλλοντός του. Στη συνέχεια (σειρά είναι τυχαία) αναφέρονται κάποιοι λόγοι για τους οποίους οι άνθρωποι παίρνουν ουσίες (συμπεριλαμβανομένων του αλκοόλ και του καπνού).</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Γενετικοί</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Η χρήση ψυχοδραστικών ναρκωτικών είναι παγκόσμια, με τη μια ή την άλλη μορφή, και η ιστορία της φτάνει μέχρι πολύ παλιά, στις απαρχές της εμφάνισης του ανθρώπου και πέρα από αυτήν. Υπάρχουν άφθονα παραδείγματα ζώων που αναζητούν τις επιδράσεις των ναρκωτικών. Στο εργαστήριο, οι πίθηκοι θα πατήσουν το μοχλό για την κοκαΐνη, προτιμώντας τον από εκείνον του φαγητού. Οι γάτες τρελαίνονται από το φυτό κάτνιπ ή νεπέτα η γατόφιλη (Nepeta cataria) και ο αφρικανικός ελέφαντας θα ταξιδέψει χιλιόμετρα μόνο και μόνο για να μεθύσει με τον καρπό ενός συγκειμένου δέντρου, που έχει υποστεί ζύμωση. Τίποτε στη φύση δεν είναι τυχαίο, όμως δεν έχει ακόμα διατυπωθεί η θεωρία που εξηγεί γιατί αντιδρούμε στα ναρκωτικά με το συγκεκριμένο τρόπο. </a:t>
            </a:r>
            <a:endParaRPr b="0" lang="en-US" sz="2200" spc="-1" strike="noStrike">
              <a:solidFill>
                <a:srgbClr val="000000"/>
              </a:solidFill>
              <a:latin typeface="Calibri"/>
            </a:endParaRPr>
          </a:p>
          <a:p>
            <a:pPr marL="343080" indent="-343080">
              <a:lnSpc>
                <a:spcPct val="6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Όσον αφορά ξεχωριστές περιπτώσεις και όχι ολόκληρα είδη, η έρευνα πάνω σε ζώα έχει δείξει ότι μερικές φορές υπάρχει μια γενετική προδιάθεση για την χρήση ορισμένων ουσιών. Ολοένα και περισσότερα στοιχεία συνηγορούν υπέρ του ότι κληρονομικοί παράγοντες μπορούν να προδιαθέσουν κάποιους ανθρώπους να αναπτύξουν προβλήματα σχετικά με το αλκοόλ. Τέτοιοι παράγοντες αλληλεπιδρούν με τη διαθεσιμότητα, τον κοινωνικό περίγυρο και άλλους σημαντικούς παράγοντες.</a:t>
            </a:r>
            <a:r>
              <a:rPr b="0" lang="el-GR"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Διασκέδαση</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Οι ουσίες μπορεί να είναι συναρπαστικές για κάποιους, καθώς προσφέρουν ένα προσιτό και συχνά αξιόπιστο μέσο για την απόκτηση «απολαυστικών» εμπειριών. Όποιος αμφιβάλλει για αυτό θα πρέπει να θυμηθεί ότι οι περισσότεροι ενήλικες χρησιμοποιούν ουσίες (αλκοόλ, καπνό, καφέ) και προφανώς δέχονται άκριτα ότι μια τέτοια χρήση είναι πολύτιμη. Οι χρήστες ουσιών ομολογούν ότι παίρνουν ουσίες κυρίως επειδή τους αρέσει. Εξ’ ορισμού, οι ουσίες τροποποιούν την ψυχική κατάσταση του χρήση – επιβραδύνοντας, επιταχύνοντας ή διαστρεβλώνοντας την αντίληψη - και πολλές αυτοβιογραφικές καταγραφές χρήσης ουσιών τονίζουν τη γοητεία ακριβώς αυτών των επιδράσεων.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2T11:33:00Z</dcterms:created>
  <dc:creator>user</dc:creator>
  <dc:description/>
  <dc:language>en-US</dc:language>
  <cp:lastModifiedBy>user</cp:lastModifiedBy>
  <dcterms:modified xsi:type="dcterms:W3CDTF">2015-02-16T09:43:51Z</dcterms:modified>
  <cp:revision>23</cp:revision>
  <dc:subject/>
  <dc:title>ΝΑΡΚΩΤΙΚΑ &amp; ΕΞΑΡΤΗΣΙΟΓΟΝΕΣ ΟΥΣΙΕΣ</dc:title>
</cp:coreProperties>
</file>