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83C872-138F-4980-9F29-0808031D92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BDB6A2-6C83-4CCC-AE6D-13A611A567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ED4613-5D56-4DFC-A9B3-563A19555C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0CFB05-5FA5-40A0-B20A-6A03E28BB9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D2DD6D-84B2-40C5-91F9-14EA1553FF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FD5C41-117D-4252-87C3-DBC38AC4FE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F4CCC5-6BBB-4CD9-B3C0-A060132041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853853-B2B8-430A-90CA-2E71C93A7E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309E39-ACF9-401B-9CDB-AD4218DD99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E1174-FA17-4E62-BCF8-C57EB1035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C653B-FFA3-47DB-82CB-FA07BD9D1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326CD-F920-4FBD-9A01-A618F61CDE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61591-1ED6-46B5-9CC1-4113786992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ΕΙΚΟΝΕΣ ΤΟΥ ΞΕΝΟΥ ΣΤΟΝ ΚΙΝΗΜΑΤΟΓΡΑΦΟ</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ΕΠΙΒΛΕΠΩΝ ΚΑΘΗΓΗΤΗΣ: ΛΙΓΝΟΥ ΘΕΚΛΑ</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ΕΡΓΑΣΙΑ Β΄ ΤΕΤΡΑΜΗΝΟΥ 2016-2017</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Στα μικρά αυτά φιλμ, που αποτελούν και τα μόνα κινηματογραφικά ντοκουμέντα που έχουμε από το Μικρασιατικό Πόλεμο, ο Προκοπίου αναδείχτηκε ως γνήσιος καλλιτέχνης. Παρά τα πρωτόγονα μηχανικά μέσα, πέτυχε υψηλού επιπέδου φωτογραφία, καταπληκτική κίνηση του φακού και ρεαλιστική εικόνα.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ο 1921 ο Γαζιάδης παρουσίασε την ταινία «Ελληνικό θαύμα», όπου χρησιμοποίησε Ρώσους ηθοποιούς. Το 1924 γυρίστηκαν μερικές σύντομες ταινίες, στις οποίες πρωταγωνιστούσε ο κωμικός Μιχαήλ Μιχαήλ. Ένα χρόνο αργότερα η Άστυ Φιλμς έδωσε τη δεύτερη μεγάλου μήκους ταινία της που προξένησε εξαιρετική εντύπωση, παρά το γεγονός ότι οι περισσότεροι ηθοποιοί της ήταν άγνωστοι ερασιτέχνες. Ο τίτλος της ήταν «Το απόπαιδο».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Τον ίδιο χρόνο, ο Μιχαήλ Μιχαήλ παρουσίασε τις κωμωδίες του «Οι γάμοι της Κοντσίτας» 5 και «η Απαγωγή της Μάρως», δύο μικρού μήκους ταινίες που γυρίστηκαν από μια καινούρια ελληνοαγγλική εταιρία παραγωγής. Το 1926 δημιουργείται από τους αδελφούς Γαζιάδη μια νέα εταιρία, η Νταγκ Φιλμς. Ο Δημήτρης Γαζιάδης είχε σπουδάσει κινηματογραφία στο Μόναχο και ήταν συγχρόνως οπερατέρ, σκηνοθέτης και φωτογράφος. Το 1927 η Νταγκ Φιλμς παρουσιάζει τη πρώτη ταινία της που ήταν «το Έρως και κύματα», που αποτέλεσε σταθμό για τον ελληνικό κινηματογράφο, ο οποίος έκτοτε πραγματοποίησε αλματώδη εξέλιξη. Ηχητικός κινηματογρά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Τα χρόνια του πολέμου και της κατοχής 1940-1944 δεν αφήνουν περιθώρια εξέλιξης στον ελληνικό κινηματογράφο, έδωσαν όμως το υλικό και τα θέματά τους στους σεναριογράφους και τους σκηνοθέτες του μεταπολέμου. Αξιοσημείωτη είναι η ίδρυση της Φίνος Φιλμς(1942) που κατόρθωσε να παρουσιάσει αξιόλογη δουλειά. Μετά την απελευθέρωση, η κινηματογραφική παραγωγή ανεβαίνει. Ενώ το πρώτο - μέτριο σε εξοπλισμό - στούντιο του Σκουληκίδη κλείνει, ιδρύονται δύο αρκετά συγχρονισμένα στούντιο. Το Άλφα στα Μελίσσια και της Ανζερβός στη Φιλοθέη. Διαθέτουν την αναγκαία έκταση και σύγχρονο εξοπλισμό καθώς και ειδικευμένο τεχνικό προσωπικό. Αργότερα ιδρύονται και μερικά μικρότερα στούντιο.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ΥΠΟΘΕΜΑ 2:ΞΕΝΟΦΟΒΙΑ</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ΟΜΑΔΑ ΜΑΘΗΤΩ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ΑΚΥΡΟΥ ΣΟΦΙΑ</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ΑΝΑΣΤΑΣΙΟΥ ΣΩΚΡΑΤΗ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ΔΑΣΚΑΛΑΚΗ ΚΛΕΟΝΙΚ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ΚΑΝΤΑΝΗΣ ΠΑΝΑΓΙΩΤΗ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ΚΑΠΝΙΑΡΗ ΕΛΕΝ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ΚΑΡΑΝΤΑΣΙΟΥ ΠΑΝΑΓΙΩΤΑ</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Ξενοφοβία (από το "ξένος" + "φόβος") είναι</a:t>
            </a:r>
            <a:r>
              <a:rPr b="0" lang="en-US" sz="3200" spc="-1" strike="noStrike">
                <a:solidFill>
                  <a:srgbClr val="000000"/>
                </a:solidFill>
                <a:latin typeface="Arial"/>
              </a:rPr>
              <a:t> όταν ένας άνθρωπος είναι επιφυλακτικός ή αντιπαθεί κάτι ή κάποιον που δεν είναι δικό του, δηλαδή δεν ανήκουν στην ίδια εθνικότητα ή θρησκεία κ.α. </a:t>
            </a:r>
            <a:br>
              <a:rPr sz="3200"/>
            </a:br>
            <a:br>
              <a:rPr sz="3200"/>
            </a:br>
            <a:br>
              <a:rPr sz="3200"/>
            </a:b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Είναι μία ψυχολογική πάθηση η οποία συνήθως προκαλείται μετά από κάποια τραυματική εμπειρία. </a:t>
            </a:r>
            <a:br>
              <a:rPr sz="3200"/>
            </a:br>
            <a:br>
              <a:rPr sz="3200"/>
            </a:br>
            <a:r>
              <a:rPr b="0" lang="en-US" sz="3200" spc="-1" strike="noStrike">
                <a:solidFill>
                  <a:srgbClr val="000000"/>
                </a:solidFill>
                <a:latin typeface="Arial"/>
              </a:rPr>
              <a:t>Τα άτομα που πάσχουν από ξενοφοβία, στην ουσία φοβούνται τους ξένους που ζούνε στη χώρα μας. </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Αυτό μπορεί να προκλήθηκε επειδή πχ κάποιος μετανάστης μπορεί πχ να τους έκλεψε κι έτσι δημιουργήθηκε το συναίσθημα αυτό: φόβος για όλους τους μετανάστες. </a:t>
            </a:r>
            <a:br>
              <a:rPr sz="3200"/>
            </a:br>
            <a:br>
              <a:rPr sz="3200"/>
            </a:br>
            <a:r>
              <a:rPr b="0" lang="en-US" sz="3200" spc="-1" strike="noStrike">
                <a:solidFill>
                  <a:srgbClr val="000000"/>
                </a:solidFill>
                <a:latin typeface="Arial"/>
              </a:rPr>
              <a:t>Αυτή η πάθηση διεγείρει φαινόμενα εθνικισμού, ρατσισμού και ακραίων συμπεριφορών απέναντι στους ξένους. </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Το φαινόμενο της ξενοφοβίας μπορεί να είναι τόσο έντονο που δημιουργεί μεγάλο πρόβλημα στους πάσχοντες και γενικά στην κοινωνία, διεγείροντας έτσι αλυσιδωτές αντιδράσεις.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ΥΠΟΘΕΜΑ3:ΕΙΚΟΝΕΣ ΤΟΥ ΞΕΝΟΥ ΣΤΟΝ ΚΙΝΗΜΑΤΟΓΡΑΦΟ</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ΟΜΑΔΑ ΜΑΘΗΤΩΝ:</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ΒΑΪΝΑ ΣΤΑΥΡΟΥΛΑ</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ΒΙΤΣΑΣ ΚΩΝΣΤΑΝΤΙΝΟΣ</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ΓΑΛΑΝΗΣ ΓΕΩΡΓΙΟΣ</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ΓΚΟΡΓΚΟΛΗΣ ΔΗΜΗΤΡΙΟΣ</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ΖΑΥΡΑΣ ΣΩΤΗΡΙΟΣ</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ΒΑΣΙΛΑΚΟΟΠΟΥΛΟΣ ΙΩΑΝΝΗΣ</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ΚΑΡΑΓΕΩΡΓΟΣ ΓΕΩΡΓΙΟ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Η ερευνητική εργασία έχει ως σκοπό τη διερεύνηση των συναισθημάτων που δημιουργούν στους μαθητές του τμήματος οι εικόνες του ξένου που προβάλλονται σε επιλεγμένες ταινίες.Θα μελετήσουμε πόσο πραγματικά έτοιμοι είναι οι μαθητές να αποδέχονται το Ξένο. Ο Ξένος θα μπορούσε να είναι ταξιδιώτης, τουρίστας, μετανάστης, πρόσφυγας, άγνωστος, διαφορετικός, άλλος…  Εμείς, επιλέξαμε να ασχοληθούμε με τον Ξένο που είναι μετανάστης και ζει σε χώρα διαφορετική από τη δική του, είτε είναι Έλληνας, είτε από άλλη χώρα. Με απώτερο σκοπό να δούμε πόσο οικείο είναι τελικά στους μαθητές.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οι αλλαγές που έχουν δημιουργηθεί στην ελληνική κοινωνία λόγω των πολλών προσφύγων που ζουν πλέον στη χώρα μας και ερωτήματα όπως το πόσο εύκολα μπορούμε να βοηθήσουμε στην αφομοίωση τους κ πόσο οικεία νιώθουμε με την ένταξη τους στην κοινωνία μας απασχόλησαν στην ερευνητική εργασία</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Με ποιοτική ανάλυση των δεδομένων που συλλέξαμε εντοπίσαμε τις εικόνες του Ξένου, τις αναγνωρίσαμε ως άγνωστες ή οικείες και περιγράψαμε τα συναισθήματα που μας δημιουργούν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Σε κάθε περίπτωση, </a:t>
            </a:r>
            <a:r>
              <a:rPr b="1" lang="en-US" sz="3200" spc="-1" strike="noStrike">
                <a:solidFill>
                  <a:srgbClr val="000000"/>
                </a:solidFill>
                <a:latin typeface="Arial"/>
              </a:rPr>
              <a:t>τα συναισθήματα ήταν ανάμεικτα ενώ οι εικόνες ήταν αναγνωρίσιμες</a:t>
            </a:r>
            <a:r>
              <a:rPr b="0" lang="en-US" sz="3200" spc="-1" strike="noStrike">
                <a:solidFill>
                  <a:srgbClr val="000000"/>
                </a:solidFill>
                <a:latin typeface="Arial"/>
              </a:rPr>
              <a:t>, είτε από προσωπικές εμπειρίες και οικογενειακές αφηγήσεις, είτε από την τηλεόραση.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Μας εντυπωσίασε επίσης ότι σε κάθε περίπτωση, εκτός από τον πρωταγωνιστή Ξένο, εντοπίστηκαν </a:t>
            </a:r>
            <a:r>
              <a:rPr b="1" lang="el-GR" sz="3200" spc="-1" strike="noStrike">
                <a:solidFill>
                  <a:srgbClr val="000000"/>
                </a:solidFill>
                <a:latin typeface="Arial"/>
              </a:rPr>
              <a:t>και άλλοι ήρωες που ένιωθαν απο-ξενωμένοι από το περιβάλλον τους</a:t>
            </a:r>
            <a:r>
              <a:rPr b="0" lang="el-GR" sz="3200" spc="-1" strike="noStrike">
                <a:solidFill>
                  <a:srgbClr val="000000"/>
                </a:solidFill>
                <a:latin typeface="Arial"/>
              </a:rPr>
              <a:t>, χωρίς να είναι ξένοι από αυτ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ΥΠΟΘΕΜΑ 4:ΤΑΙΝΙΕΣ ΠΟΥ ΑΦΟΡΟΥΝ ΣΕ ΕΙΚΟΝΕΣ ΤΟΥ ΞΕΝΟΥ</a:t>
            </a:r>
            <a:endParaRPr b="0" lang="en-US" sz="36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ΟΜΑΔΑ ΜΑΘΗΤΩΝ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ΒΙΤΣΑΣ ΔΗΜΗΤΡΙΟΣ</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ΓΚΟΥΤΣΕΛΗΣ ΛΑΜΠΡΟΣ</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ΚΑΛΤΣΟΥΝΗΣ ΛΟΥΚΑΣ</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ΘΕΟΔΩΡΙΔΟΥ ΑΘΗΝΑ</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ΖΑΦΕΙΡΗ ΕΛΕΑΝΑ</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ΖΥΓΟΥΡΗ ΘΕΟΔΩΡΑ</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ΔΗΜΟΠΟΥΛΟΥ ΔΗΜΗΤΡΑ</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603360" indent="-60336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0000"/>
                </a:solidFill>
                <a:latin typeface="Arial"/>
              </a:rPr>
              <a:t>Γάμος αλά Ελληνικά, του Ζουίκ (2002)</a:t>
            </a:r>
            <a:endParaRPr b="0" lang="en-US" sz="4000" spc="-1" strike="noStrike">
              <a:solidFill>
                <a:srgbClr val="000000"/>
              </a:solidFill>
              <a:latin typeface="Arial"/>
            </a:endParaRPr>
          </a:p>
          <a:p>
            <a:pPr marL="603360" indent="-603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u="sng">
                <a:solidFill>
                  <a:srgbClr val="000000"/>
                </a:solidFill>
                <a:uFillTx/>
                <a:latin typeface="Arial"/>
              </a:rPr>
              <a:t>ΞΕΝΗ</a:t>
            </a:r>
            <a:r>
              <a:rPr b="0" lang="el-GR" sz="3200" spc="-1" strike="noStrike">
                <a:solidFill>
                  <a:srgbClr val="000000"/>
                </a:solidFill>
                <a:latin typeface="Arial"/>
              </a:rPr>
              <a:t>: </a:t>
            </a:r>
            <a:endParaRPr b="0" lang="en-US" sz="3200" spc="-1" strike="noStrike">
              <a:solidFill>
                <a:srgbClr val="000000"/>
              </a:solidFill>
              <a:latin typeface="Arial"/>
            </a:endParaRPr>
          </a:p>
          <a:p>
            <a:pPr marL="603360" indent="-603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Η Τούλα, 30άρα, ασχημούλα, κόρη Ελλήνων μεταναστών στην Αμερική. </a:t>
            </a:r>
            <a:endParaRPr b="0" lang="en-US" sz="3200" spc="-1" strike="noStrike">
              <a:solidFill>
                <a:srgbClr val="000000"/>
              </a:solidFill>
              <a:latin typeface="Arial"/>
            </a:endParaRPr>
          </a:p>
          <a:p>
            <a:pPr marL="603360" indent="-603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Ερωτεύεται μη Έλληνα και προσπαθεί για να αποδεχτεί τον γάμο  η οικογένειά τη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u="sng">
                <a:solidFill>
                  <a:srgbClr val="000000"/>
                </a:solidFill>
                <a:uFillTx/>
                <a:latin typeface="Arial"/>
              </a:rPr>
              <a:t>ΧΑΡΑΚΤΗΡΙΣΤΙΚΑ ΤΗΣ ΞΕΝΗΣ</a:t>
            </a:r>
            <a:r>
              <a:rPr b="0" lang="el-GR"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Μετανάστρια δεύτερης γενιάς, από 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υκατάστατη οικογένεια Ελλήνων μεταναστών, διατηρούν με πάθος όλα τα ελληνικά έθιμα. Η Τούλα δυσκολεύεται και να προσαρμοστεί αλλά και να αποδεχτεί την πολιτισμική κληρονομιά τη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Arial"/>
              </a:rPr>
              <a:t>Ο αγαπημένος της Τούλας, παρόλο που ήταν Αμερικανός,</a:t>
            </a:r>
            <a:r>
              <a:rPr b="0" lang="el-GR" sz="3200" spc="-1" strike="noStrike">
                <a:solidFill>
                  <a:srgbClr val="000000"/>
                </a:solidFill>
                <a:latin typeface="Arial"/>
              </a:rPr>
              <a:t> </a:t>
            </a:r>
            <a:r>
              <a:rPr b="1" lang="el-GR" sz="3200" spc="-1" strike="noStrike">
                <a:solidFill>
                  <a:srgbClr val="000000"/>
                </a:solidFill>
                <a:latin typeface="Arial"/>
              </a:rPr>
              <a:t>ένιωθε ξένος μέσα στην οικογένειά της</a:t>
            </a:r>
            <a:r>
              <a:rPr b="0" lang="el-GR" sz="3200" spc="-1" strike="noStrike">
                <a:solidFill>
                  <a:srgbClr val="000000"/>
                </a:solidFill>
                <a:latin typeface="Arial"/>
              </a:rPr>
              <a:t>, δεν ήξερε τη γλώσσα και τα έθιμα. Όμως προσπάθησε θετικά για να συνηθίσει και για να τον δεχτού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0000"/>
                </a:solidFill>
                <a:latin typeface="Arial"/>
              </a:rPr>
              <a:t>Welcome, του Λιορε(2009) </a:t>
            </a:r>
            <a:endParaRPr b="0" lang="en-US" sz="40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u="sng">
                <a:solidFill>
                  <a:srgbClr val="000000"/>
                </a:solidFill>
                <a:uFillTx/>
                <a:latin typeface="Arial"/>
              </a:rPr>
              <a:t>ΞΕΝΟΣ</a:t>
            </a:r>
            <a:r>
              <a:rPr b="1" lang="el-GR" sz="3200" spc="-1" strike="noStrike">
                <a:solidFill>
                  <a:srgbClr val="000000"/>
                </a:solidFill>
                <a:latin typeface="Arial"/>
              </a:rPr>
              <a:t>:</a:t>
            </a:r>
            <a:r>
              <a:rPr b="0" lang="el-GR" sz="3200" spc="-1" strike="noStrike">
                <a:solidFill>
                  <a:srgbClr val="000000"/>
                </a:solidFill>
                <a:latin typeface="Arial"/>
              </a:rPr>
              <a:t> </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Ο Μπιλάλ, 17χρονος Κούρδος από το Ιράκ. </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Περπάτησε 4.000 km μέχρι τη Γαλλία και ήθελε να περάσει κολυμπώντας στην Αγγλία για να βρει την αγαπημένη το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ΧΑΡΑΚΤΗΡΙΣΤΙΚΑ ΤΟΥ ΞΕΝΟΥ</a:t>
            </a:r>
            <a:r>
              <a:rPr b="1" lang="en-US" sz="32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Παράνομος μετανάστης</a:t>
            </a:r>
            <a:r>
              <a:rPr b="0" lang="en-US" sz="3200" spc="-1" strike="noStrike">
                <a:solidFill>
                  <a:srgbClr val="000000"/>
                </a:solidFill>
                <a:latin typeface="Arial"/>
              </a:rPr>
              <a:t>,  πολύ δύσκολες συνθήκες διαβίωσης, αντιμετωπίζει ρατσιστικό μίσος.  Βρήκε υποστήριξη και φιλία από τον Γάλλο δάσκαλο κολύμβησης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ΕΡΕΥΝΗΤΙΚΑ ΕΡΩΤΗΜΑΤΑ </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ΕΛΛΗΝΙΚΟΣ ΚΙΝΗΜΑΤΟΓΡΑΦΟΣ</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ΞΕΝΟΦΟΒΙΑ</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ΕΙΚΟΝΕΣ ΤΟΥ ΞΕΝΟΥ ΣΤΟΝ ΚΙΝΗΜΑΤΟΓΡΑΦΟ</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ΤΑΙΝΙΕΣ ΠΟΥ ΑΦΟΡΟΥΝ ΣΤΕ ΕΙΚΟΝΕΣ ΤΟΥ ΞΕΝΟΥ</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Αναγνωρίζουμε τις εικόνες</a:t>
            </a:r>
            <a:r>
              <a:rPr b="0" lang="en-US" sz="3200" spc="-1" strike="noStrike">
                <a:solidFill>
                  <a:srgbClr val="000000"/>
                </a:solidFill>
                <a:latin typeface="Arial"/>
              </a:rPr>
              <a:t> πώς φέρονταν στους παράνομους μετανάστες, σε ποια θέση βρίσκονταν, από τις ειδήσεις στην τηλεόραση και από ταινίες.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Arial"/>
              </a:rPr>
              <a:t>Ο Γάλλος προπονητής και παλιός πρωταθλητής ένιωθε μόνος και ξένος</a:t>
            </a:r>
            <a:r>
              <a:rPr b="0" lang="el-GR" sz="3200" spc="-1" strike="noStrike">
                <a:solidFill>
                  <a:srgbClr val="000000"/>
                </a:solidFill>
                <a:latin typeface="Arial"/>
              </a:rPr>
              <a:t> στη γαλλική κοινωνία. Δεν καταλάβαινε γιατί χώρισε με την γυναίκα του ούτε γιατί η χώρα του φερόταν έτσι στους μετανάστες. Από αντίδραση σ’ αυτά, βοήθησε τον Μπιλά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ΥΠΟΘΕΜΑ 1:ΕΛΛΗΝΙΚΟΣ ΚΙΝΗΜΑΤΟΓΡΑΦΟΣ</a:t>
            </a: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ΟΜΑΔΑ ΜΑΘΗΤΩΝ:</a:t>
            </a:r>
            <a:r>
              <a:rPr b="0" lang="en-US" sz="1800" spc="-1" strike="noStrike">
                <a:solidFill>
                  <a:srgbClr val="000000"/>
                </a:solidFill>
                <a:latin typeface="Arial"/>
              </a:rPr>
              <a:t> </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ΑΘΑΝΑΣΙΟΥ ΚΩΝΣΤΑΝΤΙΝΟΣ</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ΑΣΗΜΑΚΟΥΛΑ ΦΩΦΩ</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ΒΙΤΣΑ ΑΝΝΑ</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ΒΛΑΧΟΥ ΜΑΡΙΑ</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ΓΕΩΡΓΟΥΣΗΣ ΣΠΥΡΙΔΩΝ</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Ο ελληνικός κινηματογράφος ξεκίνησε στις πρώτες δεκαετίες του 20ου αιώνα, με μικρό αριθμό ταινιών μέχρι το 1940 (35 κατά προσέγγιση). Η άνθηση του άρχισε μετά τον Β' παγκόσμιο πόλεμο, με 4-7 ταινίες το χρόνο μέχρι το 1950 και σταδιακά η παραγωγή αυξήθηκε μέχρι τις 60 ταινίες το 1960. Η χρυσή εποχή του ελληνικού κινηματογράφου ήταν από το 1960 μέχρι το 1973 φτάνοντας μέχρι τις 97 ταινίες το χρόνο (με μέσο όρο 80 ταινίες το χρόνο). Από το 1974 μέχρι σήμερα η παραγωγή κυμαίνεται σε πολύ μικρότερα επίπεδα από 10 ταινίες μέχρι 40 ταινίες το χρόνο.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Η ιστορία του ελληνικού κινηματογράφου αρχίζει το 1906, αν και συχνά αναφέρεται ως έτος αρχής του το 1914. Το 1906 κινηματογραφείται μια μικρού μήκους ταινία των Ολυμπιακών αγώνων που διεξάχθηκαν τότε. Επρόκειτο για ταινία γυρισμένη με απλά τεχνικά μέσα, ωστόσο δεν έλειπαν και ορισμένα στοιχειώδη καλλιτεχνικά γνωρίσματα.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Ένα χρόνο αργότερα, το (1907) έγινε μια ακόμη ταινία του είδους αυτού που παρουσίαζε τον εορτασμό της ελληνικής Εθνικής επετείου. Στα επόμενα τρία χρόνια, δεν σημειώνεται καμία άλλη ελληνική ταινία. Το 1911 ο Κώστας Μπαχατώρης, παρουσίασε στην οθόνη, το κωμειδύλλιο του Περισιάδη «Γκόλφω», που γνώρισε στο θέατρο μεγάλη επιτυχία. Οπερατέρ της ταινίας ήταν ο Ιταλός Μαρτέλι και πρωταγωνίστρια η βεντέτα του θεάτρου της εποχής Ολυμπία Δαμάσκου. Η ταινία είχε πολλά ελαττώματα και λάθη αλλά ο κόσμος την υποδέχθηκε με ενθουσιασμό, πράγμα το οποίο παρακίνησε πολλούς να μιμηθούν τον Μπαχατώρη.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Το 1912 ιδρύθηκε η πρώτη κινηματογραφική εταιρία, η Αθηνά Φιλμ και η πρώτη της ταινία ήταν ένα μικρό ντοκιμαντέρ γύρω από τη ζωή των νεαρών Ελλήνων πριγκίπων. Ύστερα από αυτό γυρίστηκε μία άλλη ταινία μήκους χιλίων μέτρων με τίτλο «Η τύχη της Μαρούλας», που αποτέλεσε την πρώτη ελληνική ταινία με αξιώσεις στοιχειώδους καλλιτεχνικού και τεχνικού επιπέδου. Το 1913, η ίδια εταιρία παρουσίασε μία σειρά μικρών κωμωδιών τύπου μπουρλέσκ, με πρωταγωνιστή το δημοφιλή κωμικό Δημητρακόπουλο. Η επιτυχία των κωμωδιών αυτών ήταν πολύ μεγάλη και τον επόμενο χρόνο, ο Λεπενιώτης γύρισε στον ίδιο τύπο την ταινία «Ο Βιλλάρ» στα μπάνια του Φαλήρου.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ο 1916 ιδρύθηκε μία δεύτερη κινηματογραφική εταιρία, η Άστυ Φιλμς, που τον ίδιο χρόνο παρουσίασε την κωμωδία με τίτλο «Η προίκα της Αννούλας». Ακολούθησαν τα χρόνια του Α' Παγκοσμίου Πολέμου, που σταμάτησαν μέχρι το 1920 την εξέλιξη του ελληνικού κινηματογράφου. Την εποχή αυτή ο Αχιλλέας Μαδράς και οι αδελφοί Γαζιάδη επεχείρησαν να γυρίσουν μερικά ντοκιμαντέρ. Στην ίδια περίοδο έγιναν και τα πολεμικά ντοκιμαντέρ του Γιώργου Προκοπίου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5-04T16:35:55Z</dcterms:created>
  <dc:creator>Στέλιος</dc:creator>
  <dc:description/>
  <dc:language>en-US</dc:language>
  <cp:lastModifiedBy>Στέλιος</cp:lastModifiedBy>
  <dcterms:modified xsi:type="dcterms:W3CDTF">2017-05-04T17:15:52Z</dcterms:modified>
  <cp:revision>2</cp:revision>
  <dc:subject/>
  <dc:title>ΕΙΚΟΝΕΣ ΤΟΥ ΞΕΝΟΥ ΣΤΟΝ ΚΙΝΗΜΑΤΟΓΡΑΦΟ</dc:title>
</cp:coreProperties>
</file>